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1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1A3FE1-6785-4178-8143-34E920ABC00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540533-AEB0-4853-AC69-CAF9F9EB17E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F3808B-6930-4072-8EB2-C45C66892DE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08314F-C2B9-4118-88E0-D9E17B0AC9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1A1A07-3891-4C37-B9CB-F43C6B761E41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92F724-C7C4-4208-9BD3-004671BF40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301C84-3202-4B81-81CA-71E584438B76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70513E-11A9-4A9B-825E-F0609D5530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FA3A07-FC49-4911-8967-9576AACD893C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DB138B-1E82-4ACE-A6B1-7DE517E7BD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E9634D-876C-4B91-BAD8-C792DDB9D5B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BA60A0-E131-4CA8-BCA2-FA2111A7CB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0BD9E5-231A-4944-B6CE-FA3CA6CD769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184512-E57E-489C-BC99-7DA6871239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978940-9318-4583-803E-A36FC4C8E1B1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7FBAE3-75BF-4C9A-B52F-1B914D4A58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4E85E6-C27A-4BB5-AC96-5078C21AD0B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0BC887-1BE6-42BE-968D-B12BD3559F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05F8DB-0D35-4575-ADA3-5C8E31AA5361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9FE82F-CA2D-4AC0-B663-CFB37334C8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B07A54-5C1B-4A03-A3AD-1C15181B2A6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2CDD20-1696-4C41-961A-F31DA5212C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70DBA2-5486-4A6D-A03D-2CAC68B62E3A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DE2C44-9C69-477B-BD3A-7DF3B8FA28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433E70-6248-4C72-90E4-71DA71AF238D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7A3159-E133-47BD-A54A-354FDAB09E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1CF9A3-8EF3-4B16-B7D7-E7327BC249A1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620C16-E451-4EE6-92AE-D314417CC2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A47684-634F-4C73-B143-F1B767478AF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5AEA1A-CEF9-4DCE-9A4D-1B2FD5FE50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760A12-8E52-4093-8BB7-8837D1CBB68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E7E2EF-78DE-42CA-9475-9D3F947A96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13BCA9-B769-4879-8C28-9F34208AC77D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2C49D5-0C52-4A4B-B883-DD5F5767D7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4D8622-C79A-4628-8004-CF38E29212CB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8D3124-3C10-4E99-8066-9F037C1559E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50EDB4-012C-411C-B2CF-6EBA8BDF2D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C6D130-FB34-471F-84E3-E556464DD8F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7CE294-E234-4577-82C2-E416CE5D3E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DAFC87-496C-4CF6-A0E5-8FA66FAD01CD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9FB9E0-92D8-49E7-8D82-0238D5CD86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BA1DD5-95EE-4E90-A72A-66C73E956CF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6BA5C2-A023-49A0-BE99-04AA294DAB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6C5FAB-E9DF-4C65-9255-1848D0A86219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B9BD5C-C233-4E5D-95DE-DFA3576489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A7D0E1-46B6-4578-A4DA-532B5102E016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DBDA73-8154-472A-B5E1-DEF836EE5A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85C7DC-E33B-4E58-8A4E-F49961F7CB4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4CB7CD-C685-4676-A420-F3ECB61258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4F22-A309-4B85-B221-8C59923D9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F12E-F82C-4915-8EB6-AA9476A9D9F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4A6D-77A6-4297-9ACB-F7D68369883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7999F-974B-4000-8ED9-AD53E75AE9A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7ADE-CC4B-4045-9C48-D9C8CB4863C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F0B8-53F9-4725-A93C-B2593AB351A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B1E4-B8E1-4540-BAA9-0041FE638CE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D4BA-8B9F-4853-87AB-B4F8990C36D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CC99-739A-4C3B-93A3-E927D926707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BFA0B-3A43-4356-A441-AB780BECEC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7F0C-178E-4C83-991D-DF8F7DC1F69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23B79-AF41-43DB-9407-31A931CD6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EEC5-54B4-44B7-B2E4-DBE9661C7A1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7B46D-D2E4-414A-BE7F-5C97A067B36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EAA103-D395-4D12-BB7A-8634C32C94A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BA0F37-09E6-4594-9DC9-4C54B09BC0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AA220-1551-4B6F-AB78-73DBC9EA36A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7AA138-20E3-4B9F-AA6C-8B63EF369BA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BCFB42-B9C2-4539-A35B-3DF97F3D980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496C11-1FB2-48AE-8C3A-7CFD2264F56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5ECCF-C7FA-4BF9-A678-9804EDEF77B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E288A-AE3F-4C3C-9E19-F53FF69182A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1F68AC-CC0B-43DB-9DA5-61AC74422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D822-3090-497A-8C98-FA53417686A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B1059-6792-4AAA-B923-044DF8D30E9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A88A3-76EF-43F3-A515-1ACEAE3988F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C57A2-89D0-4144-AED7-9148014EDE4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0CC4E1-1FE6-492D-8D11-5AD7D9EB61D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7814F-8246-4F85-AF99-2E9016D2B99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3D010-5E49-477C-8E28-519C370FBCD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8A1357-D6E0-4EE2-B2FC-0C9006258CD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241CF-2217-4F1E-A1A3-B74ECA54AC9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573FA-DEF2-4B8C-8119-8BB13CD068E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44738-0486-4507-8B49-C363171E4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583E-FB06-4711-9D2E-D663BD46D20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51FD4-548E-47F8-8CBF-30B480F018A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6158E-8913-4BE3-B2FC-A6B4C9E8306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22793-8CA6-4F02-A0A6-0D1A246FC11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60ACA-BC49-433B-9050-1C5AFE161E0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2E1F5-6889-46E4-A060-5E540B222FA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2E587-9BB1-44C4-9A95-67E0DF6A0B2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3D2E3-BE98-43C8-8C5D-71EE4E8362E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685C8-47A7-493C-BAA1-6496712610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EB43C-7BD5-4DCE-BEE0-3BF04B83C2E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C9EB-8CC2-4180-B55C-923E5C8A1F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326F-3E41-4B21-9ADC-45C001DFC79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38E1F-A682-4E7B-B46C-E5BB9CDB6CD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2CA89-6B15-453C-8C22-AEE5DFCF1A8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EE8A4-1F4B-468F-8A87-03A78A81101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AE19-29D2-473F-9968-B9E18DC9C36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E4DB-8E60-42C9-9E08-91F20E7D384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F7219-FBA1-4724-98EC-BCD922807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4481A-CBAF-4DBB-BC12-D5854C79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17D50-FF0C-4A70-862C-7EEA98FF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94901-4A7C-47EC-BC57-1761BAB2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B6B52-BCB5-4C0B-974D-DCD1C0A1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E84E-F488-48D8-8664-83029A611F3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0BA52-2896-43C5-8322-543E8E92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586C3-FDC4-4B05-8D74-4C245ADB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060D5-40A9-416A-8F78-9CACD49A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B5ADA-88C9-4A8A-B459-ED1CBEF6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9072A-996C-4DCC-B6B1-72088805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9C7F9-9D11-4110-B9D1-6E06D8E0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01F82-58B5-4A45-A0D8-8C79ECA3B2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4511-C603-46E9-96A1-6C8DC232DB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F73FD-C158-47F6-B892-12B4543514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8A5D-0E81-404D-8EF5-03A3C79CD6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6812-94D1-4F5F-B8EB-473E4664E0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EDB7-F86C-4BF9-8DD7-8962591D2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E87A-9B92-4AEE-9B18-2C531EDAAD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D0DA-539F-44F7-951D-B8541D94CC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D2AF-B2F4-4186-AA68-DB6C90BDDD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3750-7534-4440-8412-1153CE2C9B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F996-59A3-4986-9FB7-8BAE538688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36B-F87E-4CE6-8FD9-A0F7C11D9F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A86-AB48-4DFB-95AF-C81B7AADC1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682-91C3-4028-BA1D-11866406F4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D52-767E-4E32-A9BD-355A72F168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49C-41D4-40BE-B522-621F6C2C07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0F2B-DA31-4BC0-A32F-F30A454D2A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E82-933F-4ECC-8BC6-EE25706BE7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FA3-2397-49DB-B644-2B6ABD858E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791-53D6-4A02-8150-6077292E6D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DCF-D9D8-4324-8F77-65C6A3E6C7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5C8-9800-4504-9015-0464E42674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2DE-C63D-4FE9-9371-6B4959E725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B5C-6940-4F23-8F88-2D7A304172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50D34-DF0B-4576-8580-6AEBB00003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46DE4-918E-4315-8398-84F624DB1B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10070-EA1F-4D71-A642-B874D85BB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667D-309E-4952-8483-98CE87422F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4D540-2CF2-432B-9D00-A6F2EB1EDB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DB208-3285-445E-9F9F-8FDC0B875F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E0D04-ADB8-425B-A473-F1918329E7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CC693-3BE1-4CCD-9729-15C738B762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6C616-2E81-46D0-BD70-F1452E9D56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E13CC-1751-4F88-BF1E-96832E23C1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7FC7F-1E0A-439D-AFB5-17158720C1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819E0-849B-4047-A60C-4AB8CF6D40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19724-48E3-4E43-B57D-47407CBD5D3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0F6EC-A21A-46E7-8474-3BD0CD4E5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BF61-C89C-4593-8D5E-A1CAF3DC66D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8C1E2-445F-46F8-AD3F-2403D605B3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5EAA7-3217-4729-89D9-B9991334FCE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58DE4-48D7-456A-B2D5-D4D8DBC0CB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DC24F-C4A8-4ADD-B350-26920269EC6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CFF20-B2AC-4BD0-9122-C1C23EF2D3F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3A860-CB81-4732-82A9-CFBD1C9BA7A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4D7A2-E61E-458E-B4CF-2DB75059BE0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77C05-5737-4AD6-BA0E-7C200C0818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8816C-A706-47BD-BDE3-4623B0A19CA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F2FF5-EEEC-4243-BCB5-D920D06A4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471A-2819-47D1-BF56-1B5D231D5C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B3AFC-6AE0-4BA5-9597-69CE5AD578F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61B3-91C0-44BF-9BAA-BFA36705BEF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7455-B307-4A3A-836B-7C6E1CEBC1D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9C95-366C-422E-9F0C-3A714CAD864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D241-89AA-478D-97CB-E1EEE2EE8FF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CEA4-385F-40D0-AEAD-AE6011413AD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173F-7FC3-4C6F-9CCA-85435992C1C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FD01-3162-4744-8FE2-2F9BB63628E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76DB-0ACC-4FE7-AACA-516638017E9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3991-882E-4453-9B69-D3841BE4F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D63E-D133-4378-ABD9-FCC0F6FBF9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B48C-BEA4-4163-96AB-8381BED9CA0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D923-F85C-4A23-BDE2-FE5AF846771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1A3C-98AF-45A6-9A43-0CC035416ED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8E6F4D-7D65-4B7C-93ED-7B5CCA7613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058ED-0BBD-40E8-8038-1FE878186CC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9336BA-8102-4AB6-8C9F-454AD036792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5EEC9-8E96-4D6F-9457-A36E27D3DD6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A23A7B-3124-46F2-96CC-A6DCD9E1208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5E1EE3-1F72-481D-863C-C40DF09BD0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EFA7CF-5A1E-47D5-8848-D31EF93FE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033C-EC79-4E8D-B4C9-5495565256D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E6AD8-8C4E-4D7F-B800-557E386B26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D6CBC2-FB11-4CA4-A358-90EA1F8991B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D569E7-166A-4784-B7DA-13B822C6D0B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B21531-8B27-4FB0-A010-3771D24E7A7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E10BA-0F72-4101-9EDA-EFC43E9590F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3A9EE-B897-48B5-B9F1-51340CCF22D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3B677-8A9A-40E1-BC96-2718F612CD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BCC1F-D38E-46A9-8845-853F7B3B65F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F1697-3DF5-4D5E-A680-D3279009A89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AB3A8-860D-44C7-9F01-2280251D8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5C66-B833-44FF-8879-31B113333A7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6A217-2823-4236-BBFE-708A71FBA7E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B2F97-A8FE-4B7C-978E-42ECA3D3CCD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0516F-EF66-4126-9CA4-74ADB2F6050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E1E45-42A8-4316-9ECF-C9BED81ADEB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5790F-74DE-4FC6-AAA8-8C3E7E32CBF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06AA1-76F5-4860-9572-D3F7FCB5666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F4171-67BA-48DA-8AE2-9699B005840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A0D90-EBC7-4227-85F4-F5FBE299509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6EE1-0D51-4B34-80CE-DAA7DDF009F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FAAE-9EF7-4202-B280-536496C69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D682F1-9AED-408C-951E-718491B3BC5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E82A8D-1002-4E88-A873-5E6486EF778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7E1CEA-DC05-48FF-8C1E-9311DCB2D5B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184464-FE7F-4FE7-843D-8AEFE87E28C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CE1F55-5C1A-443C-A5D6-F6167CAAF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48F200-46BE-4B25-B3CD-D3E7ACADEB6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7E5797-7E62-4613-A89E-296F9EEC445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51876A-FB71-4C70-B73B-4CEC1E8A934A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85695E-C43D-4BA4-96B4-F2787B24A0D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A242A4-EE58-4406-BF55-E76040B66FB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AD84D4-04BA-4210-89AF-952C22A15B7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2B77B5-D666-406E-9E7B-050979D7F42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F70D4B-885D-4629-A94D-534357F27B8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-Αικατερίνη Μαντά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Philip Whitaker (2007) μελέτησε τις στάσεις και τις απόψεις των γονέων απέναντι σ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ιδιά με αυτισμό τα οποία λαμβάνουν εκπαίδευση σε σχολεία γενικής εκπαίδευσης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αποτελέσματα της έρευνάς τους έδειξαν ότι οι περισσότεροι απ’ τους συμμετέχοντες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ικανοποιημένοι απ’ τη μέριμνα για την εκπαίδευση των παιδιών του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9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στόσο τόσο οι ικανοποιημένοι γονείς όσο κι η ομάδα των γονέων που δεν ήτα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ιημένοι αναφέρθηκαν στην κατανόηση που το παιδί τους λαμβάνει απ’ το προσωπ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υ παρέχει τη μέριμνα και η κατανόηση του παιδιού τους ήταν υψίστης προτεραιότητ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τις δύο ομάδες. Οι ανησυχίες για το επίπεδο κατανόησης αποτελούσε σαφώς ενδεχόμεν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ηγή στρες και αγωνίας και για τις δύο ομάδ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1"/>
          <p:cNvSpPr/>
          <p:nvPr/>
        </p:nvSpPr>
        <p:spPr>
          <a:xfrm>
            <a:off x="39528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εν φαίνεται να αναμένουν απ’ το προσωπικό της γενικής εκπαίδευσης να έχει εξειδικευμέν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νώσεις για συγκεκριμένες προσεγγίσεις στη διδασκαλία παιδιών με αυτισμό και εκτός απ’ 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θέλουν άμεση διδασκαλία για την ανάπτυξη κοινωνικών δεξιοτήτων, δεν φαίνοντ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ζητούν ουσιώδη τροποποίηση στη διδακτέα ύλη ώστε να ληφθούν υπόψη οι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ίζονται με τον αυτισμό των παιδιώ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, σε έρευνα των Turnbull et al. (2002) διαπιστώθηκε πως οι θετικές στάσεις απ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σοβαρές ειδικές ανάγκες απέναντι στην ένταξη φαίνεται να είναι 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νόνας. 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" name="Rectangle 8"/>
          <p:cNvSpPr/>
          <p:nvPr/>
        </p:nvSpPr>
        <p:spPr>
          <a:xfrm>
            <a:off x="0" y="162864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1"/>
          <p:cNvSpPr/>
          <p:nvPr/>
        </p:nvSpPr>
        <p:spPr>
          <a:xfrm>
            <a:off x="395280" y="1125360"/>
            <a:ext cx="835344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παράδειγμα, αρκετές μελέτες με γονείς παιδιών με σοβαρές ειδικές ανάγκες σ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γράμματα ένταξης από την προσχολική ηλικία έως και το Γυμνάσιο έδειξαν ότι οι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στήριζαν την τοποθέτηση των παιδιών τους σ’ αυτά και εξέφρασαν ικανοποίηση για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οτελέσματα της εκπαίδευσης, ιδιαίτερα για τα κοινωνικά οφέλη (Gallagher et al., 200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line &amp; Halvorsen, 1989; McDonell, 1987; Palmer, Borthwick-Duffy, &amp; Widaman, 199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φορικά με την ικανοποίηση των γονέων από τα εκπαιδευτικά προγράμματα παρέμβα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α παιδιά με ειδικές εκπαιδευτικές ανάγκες στην διεθνή βιβλιογραφία, παρατηρείται υψηλ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αθμός ικανοποίησης και διατυπώνονται θετικές στάσεις και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McNaughton,1994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William et all.,1995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, σε έρευνα που πραγματοποιήθηκε στον Καναδά και μετρούσε τον βαθμ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ς των γονέων για τα προγράμματα παρέμβασης, οι γονείς εξέφρασαν μεγάλ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 και δήλωσαν αρκετά ευχαριστημένοι από το εκπαιδευτικό έργο που παρέχεται σ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είο του παιδιού τους ( Falbo et.all,2003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7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3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"/>
          <p:cNvSpPr/>
          <p:nvPr/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 ,σε άλλη έρευνα, που μετρούσε την ικανοποίηση των γονέων σχετικά με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ιότητα των εκπαιδευτικών υπηρεσιών, βρέθηκε μεγάλος βαθμός ικανοποίησης ο οποί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δέεται με την αποτελεσματική επικοινωνία του σχολείου με τον γονέα ,καθώς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αρκή πληροφόρηση των ίδιων από τους εκπαιδευτικούς(Bailey et all., 2003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8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8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1"/>
          <p:cNvSpPr/>
          <p:nvPr/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ην άλλη πλευρά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οι άλλοι ερευνητές ανέφεραν ότι μερικοί γονείς παιδιών με σοβαρές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άγκες δεν είναι υπέρ της ένταξ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Palmer, Fuller, Arora, &amp; Nelson, 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9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9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ευνα που έγινε σε πολιτεία των ΗΠΑ (Mandell &amp; Salzer, 2007) έδειξε ότι οι γονείς παιδιώ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πιο σοβαρές αναπηρίες τα οποία συμμετείχαν σε τμήματα ένταξης, ανέφεραν αρνη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άσεις η εμπειρίες ως προς την τοποθέτηση των παιδιών τους, καθώς οι υπηρεσ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έχονταν τα παιδιά τους στο περιβάλλον γενικής εκπαίδευσης χαρακτηρίστηκαν αδύναμε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δόν ακατάλληλε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0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0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863640" y="1392120"/>
            <a:ext cx="75960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6" name="Rectangle 8"/>
          <p:cNvSpPr/>
          <p:nvPr/>
        </p:nvSpPr>
        <p:spPr>
          <a:xfrm>
            <a:off x="147636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10"/>
          <p:cNvSpPr/>
          <p:nvPr/>
        </p:nvSpPr>
        <p:spPr>
          <a:xfrm>
            <a:off x="1332000" y="46753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Παναγιώτης Ν. Μαντάς-Κατσαντώνη Σπυριδούλ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ες ανησυχίες που αναφέρθηκαν από γονείς παιδιών με ειδικές εκπαιδευτικές ανάγκ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μπεριλαμβάνουν ανησυχίες για λεκτική και σωματική κακομεταχείριση από τα άλλα παιδιά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ή απομόνωση, και απώλεια ή μείωση των υπηρεσιών και της ποιότητα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ίδευσης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Donnell, 1987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1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1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9" name="Rectangle 8"/>
          <p:cNvSpPr/>
          <p:nvPr/>
        </p:nvSpPr>
        <p:spPr>
          <a:xfrm>
            <a:off x="971640" y="1844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1"/>
          <p:cNvSpPr/>
          <p:nvPr/>
        </p:nvSpPr>
        <p:spPr>
          <a:xfrm>
            <a:off x="539640" y="1392120"/>
            <a:ext cx="8353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Palmer et al. (2001) ανέφεραν ότι οι γονείς ανησυχούσαν ότι η σοβαρότητα της αναπηρίας του παιδιού τους εμπόδιζε τα οφέλη που θα μπορούσ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χαν από την ένταξη, ότι η ένταξη θα μπορούσε να εξουθενώσει τους εκπαιδευτικούς της γενικής εκπαίδευσης ή τους μαθητές, και ότι το παιδί συμπεριφορικά ήταν υπερβολικά διασπαστικό και θα μπορούσε να πληγώσει τους άλλ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όμοιες ανησυχίες από Αυστραλούς γονείς αναφέρθηκαν και από τον Jenkinson (1998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2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2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1"/>
          <p:cNvSpPr/>
          <p:nvPr/>
        </p:nvSpPr>
        <p:spPr>
          <a:xfrm>
            <a:off x="971640" y="126828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 τις ανησυχίες που εξέφρασαν κάποιοι γονείς, σε έρευνα του Philip Whitaker (2007)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ωρήθηκε εξίσου σημαντικό για τους γονείς το γεγονός ότι το προσωπικό θα πρέπει να έχ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α αίσθηση για το τι βρίσκεται κάτω απ’ τις προκλήσεις και τις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ουσιάζονται για το παιδί αλλά και κάτω από τις εμπειρίες που αυτό βιώνε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3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3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7" name="Rectangle 8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1"/>
          <p:cNvSpPr/>
          <p:nvPr/>
        </p:nvSpPr>
        <p:spPr>
          <a:xfrm>
            <a:off x="324000" y="981000"/>
            <a:ext cx="84960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ίδια έρευνα, σημειώθηκε πως υψίστης προτεραιότητας για τους γονείς ήταν η ανάπτυ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ών δεξιοτήτων του παιδιού τ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ιαφοροποιούνταν επίσης ως προς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ιλοδοξίες τους σχετικά με την κοινωνική ανάπτυξη των παιδιών τους και τις σχέσεις τους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συνομηλίκους του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4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"/>
          <p:cNvSpPr/>
          <p:nvPr/>
        </p:nvSpPr>
        <p:spPr>
          <a:xfrm>
            <a:off x="179280" y="981000"/>
            <a:ext cx="849636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ενικότερα, αν και υπάρχουν πολλά στοιχεία που αναφέρουν ότι οι στάσεις των γονέ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έναντι στην ένταξη καθορίζονται από διάφορους παράγοντες, δημογραφικά χαρακτηριστικ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κοινωνικοπολιτιστικά πλαίσια (Sigel et al., 1992)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Stoiber (1992) αναφέρει ότι οι στάσ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οι αντιλήψεις των γονέων παιδιών με ειδικές εκπαιδευτικές ανάγκες για την έντα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ήθως βασίζονται σε δικές τους προσωπικές εμπειρίες και τείνουν να χαρακτηρίζ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τικές και ικανοποιητικέ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5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1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3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4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5"/>
          <p:cNvSpPr/>
          <p:nvPr/>
        </p:nvSpPr>
        <p:spPr>
          <a:xfrm>
            <a:off x="61128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Κατσαντώνη Σπυριδούλα-Μαντά Αικατερίν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1"/>
          <p:cNvSpPr/>
          <p:nvPr/>
        </p:nvSpPr>
        <p:spPr>
          <a:xfrm>
            <a:off x="468360" y="1392120"/>
            <a:ext cx="79912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όσο στην Ευρώπη όσο και στις ΗΠΑ κατά την τελευταία δεκαετία, η νομοθεσία έχει δώσ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μφαση στα δικαιώματα των γονέων ώστε αυτοί να εκφράζουν τις προτιμήσεις και τις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και να κάνουν επιλογές όσον αφορ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τύπο του σχολείου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μέριμνα που γίνεται για να διευθετηθούν οι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των παιδιώ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εμπειρίες των γονέων και οι αντιλήψεις τους για τ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νταξη  επηρεάζουν σημαντικά τη διαμόρφωση της μελλοντική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έριμνας για τα παιδιά με ειδικές εκπαιδευτικές ανάγκες και ιδιαίτερα την έκταση και τη φύσ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ιονδήποτε περαιτέρω κινήσεων προς την επίτευξη αποτελεσματικότερης ένταξη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παίζουν σημαντικό ρόλο στη διαδικασία της ένταξης. Σε πολλές χώρες ο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ρρυθμίσεις και οι κανονισμοί που αφορούν την ειδική εκπαίδευση παρέχουν οδηγίες γι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ενεργή εμπλοκή και συμμετοχή των γονέων στην εκπαίδευση των παιδιών τους ενώ κατ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 τελευταίες δύο δεκαετίες έχουν γίνει αρκετές μελέτες που εξετάζουν τις απόψεις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ησυχίες των γονέω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θεωρούνται οι πιο κατάλληλοι αξιολογητές τόσο της εκπαιδευτικής διαδικασίας όσο και των εκπαιδευτικών υπηρεσιών που δέχονται τα παιδιά τους από τους εκπαιδευτικούς γενικής και ειδικής εκπαίδευ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Jinnah&amp;Walters,2008). (Lindsay&amp;Dockrell,2004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3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1"/>
          <p:cNvSpPr/>
          <p:nvPr/>
        </p:nvSpPr>
        <p:spPr>
          <a:xfrm>
            <a:off x="1042920" y="1484280"/>
            <a:ext cx="75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δοκίες και οι απαιτήσεις των γονέων ως προς την εκπαιδευτική δράση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υπηρεσίες που προσφέρονται στο παιδί τους, αποτελούν τον βασικότερ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α για μια επιτυχημένη εκπαιδευτική διαδικασία(Lindsay&amp;Dockrell,2004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1"/>
          <p:cNvSpPr/>
          <p:nvPr/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τρέχοντας σε παλαιότερες βιβλιογραφικές αναφορές, έρευνες έχουν δείξει (McDonnell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987; Ryndak, Downing, Jacqueline &amp; Morisson, 1995) πως οι γονείς παιδιών με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διατυπώνουν γενικά θετικές απόψεις και αντιλήψεις προς την ένταξη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1"/>
          <p:cNvSpPr/>
          <p:nvPr/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σχετικά πρόσφατη έρευνα που πραγματοποιήθηκε από τους Leyser and Kirk (2004) βρήκ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ψηλότερα ποσοστά υποστήριξης από τους γονείς παιδιών με ήπιες αναπηρίες σε σύγκριση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βαριάς μορφής αναπηρίε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5-10-16T10:20:35Z</dcterms:modified>
  <cp:revision>2</cp:revision>
  <dc:subject/>
  <dc:title/>
</cp:coreProperties>
</file>